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move the slide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5E7-82CD-4A0E-B00B-1B1D7BD7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 - MTA data = between stops and divided by number of lines at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 - Our underst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$334 per day is equivalent to approximately $334 X 52 X 6 = ~$104,000 per year (assuming no holi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Selecting Holiday shifts the concentration of workers to tourists on the t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nath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 - MTA data 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u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6E3-B215-48D3-985C-39F21B2D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766-7CFB-4397-9E56-E56D1C1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99A-C2D9-42AC-83EC-600325CE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8D0-3980-4D6A-8C2A-FC1DDCA2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9FF-EB5A-48C2-926C-D6111B71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3AC6-F32A-4E51-A48A-85AD9DC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9B55-F752-43AB-A7AD-1C7FD6B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9AB4-2927-47EA-8C1D-8AE1CC7E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D81-6503-4246-ACD6-D0775D3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CA5-656D-4920-97C1-4CCEAA3A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0F65-B7F1-45A1-BAE5-88DEAA0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947-F0A2-4378-AE13-8AFB012D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9AAE-0DB2-46FC-8379-92B079E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5B1-EA29-4437-B9F6-498FA8A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B65-D9B2-4262-83BE-3EA206B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7C07-DCA1-48A6-80C1-3C9B2C62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C15A-6F1E-4319-8652-39D7D157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B74F-3AB0-4EC0-88DD-61090A80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C475-A94F-4F34-B157-A2F90E4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2957-6CB7-49C5-80AC-0D3BA8F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6692-6F7E-4493-9357-182AC293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BDD5-9081-49E1-BC25-2E798E9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80E-02B0-46EA-9764-C0DA995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4FE8-3F74-43CA-A5A4-1D9B7009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E415-FAD0-4318-A52B-04D06A1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D33D-531E-4509-93CC-C188BFD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DF1C-109D-4125-9E60-1DBEB713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3A2F-C412-4C1E-BCBB-05887C9B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BE3B-B701-4D88-839E-64ADED0E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3882-9412-4896-B32E-2C55FDE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C444-BE9F-49C4-BCFB-64CC88A5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069C-7EFE-4AB1-B9CF-CF4FEC4B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21E8-1170-4005-9E48-87F0D72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F14-B1B7-481E-8CA4-FABEE82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4A8C-54A4-4EAE-AB8F-9E1B9F37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5A43-6C72-432D-8BC2-67DDB8C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B1F8-788E-4CDF-A7B4-A4FFDDDF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1E73-4D5F-4073-8EDC-2C454EF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D31D-D74B-404C-8D19-F42B6E1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B38A-11CC-4A44-9D89-5AAAF39C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7891-AFAE-4D82-B78D-1E8DF03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BB37-4C27-4CB6-8896-3CD74E63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428C-23A6-411F-9F6F-068495B2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3A04-12D7-4C50-9B14-27EBF622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519-3289-4EE7-823E-6DF4E92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732C-304D-4966-869B-F571FCB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3A269-4DA5-48F6-8D6D-F0176062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AA9E-7EB4-41AF-9C06-4CD1B446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059E-F68A-4EE5-8C25-261019A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C039-8300-4C0D-88BB-6CBC678C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5197-5B8F-4A82-8D00-959CE45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1C75-D5CF-4C64-86C5-3F18173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FF40-DA5E-4591-9C10-FE88460C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D989-0926-43C9-87E7-8C0BB8CB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073C-25F4-43DE-8EC1-5FFDE978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583-5761-4B26-97FB-64C0089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1136-0B28-47EC-AA8E-C4ED0A55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A0C5-5135-4961-BF0F-4542C846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F37E-9194-4252-A27B-F1C916A6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A0D0-EAB3-4F5A-89E6-C7E8C330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9A951-793B-45CA-A741-4B132A4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D1FA9-D1F5-4BA5-AA03-3C58B0AD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5F6A-0D79-4361-992F-175C550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5175-0B7B-4FB3-8E2A-4BB3EB8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6F63-4E32-4074-8226-54B4FE0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AC12E-DBDB-4A03-BD23-F60A236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978-7723-4502-A809-34DBDF6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22D1-6A19-4671-9DF6-9DC85E9B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DAEB1-8817-425F-9EB5-19E01B60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4071-3E92-4A01-868B-3E578891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4F5C-9DFA-4932-B4FE-E88AA496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8F691-2491-4A3D-9384-F34500B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5470-9560-4AFA-8A04-35BDB447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B2E8-1D60-4D43-BD35-4F7F6E2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9B28F-CC9B-467E-8770-D5D4CBE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BB01-ABE2-46E0-9ABC-7487BB4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AABE-698E-46B5-A414-BA7E3F6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84C-2923-47DE-8764-3847332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8D20-F882-4278-8AB1-2F30887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CBA1-16DE-43CA-9A23-7A531806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29EE-F492-4FCC-8B28-82A0B766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4937-23CD-4EC1-BD1A-D312D19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96D0-631A-445E-8402-015AB458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38E87-0BBD-4A75-91EE-33D95120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98CFF-B5FE-4BDC-8ADF-750DA110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ECAB-F3EF-4557-8E04-CD11480E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A3B91-CD5F-4830-8AF6-7093F852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BF16-6B7C-4EA3-A17E-9D4D17F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AA1-1748-4D7E-89C6-BA276CC6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79968-48D9-4DED-A89F-674BA7F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CFFA4-3338-4765-923D-3431BAD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A8B2D-A58B-4EB2-871F-6832BDF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7AC0-5296-4C0B-AFC4-A6F15C4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ED3E-4A17-476B-BCBC-23BB644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C9A3-323E-4C12-8021-1D373673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3167-29DA-4CDB-9D55-53A399C7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1B4-7A1C-45F7-9636-B14677C7C9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8" name="Oval 12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A5B6-304C-4A07-A9AC-68A823923F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zoom-midtown-963.gif"/>
          <p:cNvPicPr/>
          <p:nvPr/>
        </p:nvPicPr>
        <p:blipFill>
          <a:blip r:embed="rId5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B67-7E6C-4572-8D09-C88E6DF30C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5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8" descr="zoom-midtown-963.gif"/>
          <p:cNvPicPr/>
          <p:nvPr/>
        </p:nvPicPr>
        <p:blipFill>
          <a:blip r:embed="rId4"/>
          <a:srcRect l="39362" t="38429" r="41458" b="295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377-BF6F-45D4-8BE0-953F710625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4CE-D165-439A-AD0A-C0B27E75DA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zoom-midtown-963.gif"/>
          <p:cNvPicPr/>
          <p:nvPr/>
        </p:nvPicPr>
        <p:blipFill>
          <a:blip r:embed="rId3"/>
          <a:srcRect l="39362" t="851" r="46784" b="1447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09A-BFF1-4354-B037-9C00B87A59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7B9-5EF1-4DD6-AF77-F786E129D98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B0C-0BB7-4B17-9E73-DB4051F11D1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zoom-midtown-963.gif"/>
          <p:cNvPicPr/>
          <p:nvPr/>
        </p:nvPicPr>
        <p:blipFill>
          <a:blip r:embed="rId4"/>
          <a:srcRect l="39362" t="0" r="41458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zoom-midtown-963.gif"/>
          <p:cNvPicPr/>
          <p:nvPr/>
        </p:nvPicPr>
        <p:blipFill>
          <a:blip r:embed="rId5"/>
          <a:srcRect l="31979" t="0" r="37274" b="0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ea1b8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3ea1b8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Title 1"/>
          <p:cNvGrpSpPr/>
          <p:nvPr/>
        </p:nvGrpSpPr>
        <p:grpSpPr>
          <a:xfrm>
            <a:off x="2048040" y="139680"/>
            <a:ext cx="6883200" cy="939960"/>
            <a:chOff x="2048040" y="139680"/>
            <a:chExt cx="6883200" cy="939960"/>
          </a:xfrm>
        </p:grpSpPr>
        <p:pic>
          <p:nvPicPr>
            <p:cNvPr id="427" name="Title 1" descr=""/>
            <p:cNvPicPr/>
            <p:nvPr/>
          </p:nvPicPr>
          <p:blipFill>
            <a:blip r:embed="rId2"/>
            <a:stretch/>
          </p:blipFill>
          <p:spPr>
            <a:xfrm>
              <a:off x="2048040" y="139680"/>
              <a:ext cx="68832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57400" y="152280"/>
              <a:ext cx="6858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Subway Performer Optimizer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3"/>
          <p:cNvSpPr/>
          <p:nvPr/>
        </p:nvSpPr>
        <p:spPr>
          <a:xfrm>
            <a:off x="6400800" y="522756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na Bourdonn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 Le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athan Ol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uline Ou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x Shell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2438280" y="522756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cision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fessor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ll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l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7" descr="sounderground-nyc-busker-feature-image.jpg"/>
          <p:cNvPicPr/>
          <p:nvPr/>
        </p:nvPicPr>
        <p:blipFill>
          <a:blip r:embed="rId3"/>
          <a:stretch/>
        </p:blipFill>
        <p:spPr>
          <a:xfrm>
            <a:off x="2633760" y="1262160"/>
            <a:ext cx="5645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9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Estimated Route Traffic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1219320" y="1828800"/>
          <a:ext cx="7772400" cy="404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828800"/>
                    <a:ext cx="777240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0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Value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1434960" y="1447560"/>
            <a:ext cx="7499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oute has a different potential value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ength (time = mon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How crowded it is (can’t get thr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verage wealth of riders (think 6 lin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0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Generosity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 txBox="1"/>
          <p:nvPr/>
        </p:nvSpPr>
        <p:spPr>
          <a:xfrm>
            <a:off x="1434960" y="159984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Yorkers and tourists will on average give varying amounts, and tourists are more likely to be generous (hit up less often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981080" y="3505320"/>
            <a:ext cx="60962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1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Evolutionary Solver Model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Picture 3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9246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16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21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esults by Hour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3" name=""/>
          <p:cNvGraphicFramePr/>
          <p:nvPr/>
        </p:nvGraphicFramePr>
        <p:xfrm>
          <a:off x="1295280" y="2209680"/>
          <a:ext cx="7620120" cy="3733920"/>
        </p:xfrm>
        <a:graphic>
          <a:graphicData uri="http://schemas.openxmlformats.org/drawingml/2006/table">
            <a:tbl>
              <a:tblPr/>
              <a:tblGrid>
                <a:gridCol w="851040"/>
                <a:gridCol w="1012680"/>
                <a:gridCol w="1013040"/>
                <a:gridCol w="1012680"/>
                <a:gridCol w="1013040"/>
                <a:gridCol w="1011240"/>
                <a:gridCol w="1012680"/>
                <a:gridCol w="693720"/>
              </a:tblGrid>
              <a:tr h="519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t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r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ven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16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3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Central- B'way Lafayet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4th- Herald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2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3"/>
          <p:cNvSpPr/>
          <p:nvPr/>
        </p:nvSpPr>
        <p:spPr>
          <a:xfrm>
            <a:off x="1143000" y="3048120"/>
            <a:ext cx="7848720" cy="6094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8600" y="1523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6-hour block from 9am-3pm brings in the maximum rev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2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Improving the Model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 txBox="1"/>
          <p:nvPr/>
        </p:nvSpPr>
        <p:spPr>
          <a:xfrm>
            <a:off x="1434960" y="152352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selection for holidays impacts work/tourist ra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3"/>
          <a:stretch/>
        </p:blipFill>
        <p:spPr>
          <a:xfrm>
            <a:off x="2743200" y="2438280"/>
            <a:ext cx="3733920" cy="11797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graphicFrame>
        <p:nvGraphicFramePr>
          <p:cNvPr id="531" name=""/>
          <p:cNvGraphicFramePr/>
          <p:nvPr/>
        </p:nvGraphicFramePr>
        <p:xfrm>
          <a:off x="1295280" y="4267080"/>
          <a:ext cx="7543800" cy="838440"/>
        </p:xfrm>
        <a:graphic>
          <a:graphicData uri="http://schemas.openxmlformats.org/drawingml/2006/table">
            <a:tbl>
              <a:tblPr/>
              <a:tblGrid>
                <a:gridCol w="843120"/>
                <a:gridCol w="1001520"/>
                <a:gridCol w="1003320"/>
                <a:gridCol w="1001880"/>
                <a:gridCol w="1003320"/>
                <a:gridCol w="1001520"/>
                <a:gridCol w="1003320"/>
                <a:gridCol w="685800"/>
              </a:tblGrid>
              <a:tr h="4096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t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r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th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ven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2876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q- Union S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l St-   59th 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        4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33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Future Improvement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 txBox="1"/>
          <p:nvPr/>
        </p:nvSpPr>
        <p:spPr>
          <a:xfrm>
            <a:off x="1434960" y="159984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tor in probability of competition from other performers, based on expected rout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cat fight 2.jpg"/>
          <p:cNvPicPr/>
          <p:nvPr/>
        </p:nvPicPr>
        <p:blipFill>
          <a:blip r:embed="rId3"/>
          <a:stretch/>
        </p:blipFill>
        <p:spPr>
          <a:xfrm>
            <a:off x="3151080" y="2840040"/>
            <a:ext cx="3041640" cy="4535640"/>
          </a:xfrm>
          <a:prstGeom prst="rect">
            <a:avLst/>
          </a:prstGeom>
          <a:ln w="0">
            <a:noFill/>
          </a:ln>
        </p:spPr>
      </p:pic>
      <p:sp>
        <p:nvSpPr>
          <p:cNvPr id="537" name="Content Placeholder 2"/>
          <p:cNvSpPr/>
          <p:nvPr/>
        </p:nvSpPr>
        <p:spPr>
          <a:xfrm>
            <a:off x="1447920" y="6095880"/>
            <a:ext cx="749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 selection to change the model for week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539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Anything is possible!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3"/>
          <p:cNvSpPr/>
          <p:nvPr/>
        </p:nvSpPr>
        <p:spPr>
          <a:xfrm>
            <a:off x="3048120" y="5943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 good role model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Juran.jpg"/>
          <p:cNvPicPr/>
          <p:nvPr/>
        </p:nvPicPr>
        <p:blipFill>
          <a:blip r:embed="rId3"/>
          <a:stretch/>
        </p:blipFill>
        <p:spPr>
          <a:xfrm>
            <a:off x="3114720" y="1487520"/>
            <a:ext cx="3341520" cy="84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33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he Real World Problem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1219320" y="1600200"/>
            <a:ext cx="761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maximize the amount of money I can make in a day as a train-jumping subway perfor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3" descr="holding moeny.jpg"/>
          <p:cNvPicPr/>
          <p:nvPr/>
        </p:nvPicPr>
        <p:blipFill>
          <a:blip r:embed="rId3"/>
          <a:stretch/>
        </p:blipFill>
        <p:spPr>
          <a:xfrm>
            <a:off x="3581280" y="3505320"/>
            <a:ext cx="25909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38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Assumptio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 txBox="1"/>
          <p:nvPr/>
        </p:nvSpPr>
        <p:spPr>
          <a:xfrm>
            <a:off x="1434960" y="167652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in 6 hour shifts on week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90/10 split of work/tourist traffic during normal work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ing tourists are 3X as generous as working New Y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4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Selectio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1447920" y="14176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the subway map to most popular express rou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llowing performers enough time to complete a perform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Group 5"/>
          <p:cNvGrpSpPr/>
          <p:nvPr/>
        </p:nvGrpSpPr>
        <p:grpSpPr>
          <a:xfrm>
            <a:off x="3010320" y="2514600"/>
            <a:ext cx="3588120" cy="3998520"/>
            <a:chOff x="3010320" y="2514600"/>
            <a:chExt cx="3588120" cy="3998520"/>
          </a:xfrm>
        </p:grpSpPr>
        <p:sp>
          <p:nvSpPr>
            <p:cNvPr id="446" name="TextBox 2"/>
            <p:cNvSpPr/>
            <p:nvPr/>
          </p:nvSpPr>
          <p:spPr>
            <a:xfrm>
              <a:off x="3010320" y="2514600"/>
              <a:ext cx="109656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umbus Circ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"/>
            <p:cNvSpPr/>
            <p:nvPr/>
          </p:nvSpPr>
          <p:spPr>
            <a:xfrm>
              <a:off x="5449320" y="5759640"/>
              <a:ext cx="8740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anal Stre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4"/>
            <p:cNvSpPr/>
            <p:nvPr/>
          </p:nvSpPr>
          <p:spPr>
            <a:xfrm>
              <a:off x="4543200" y="6251760"/>
              <a:ext cx="6883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ulton 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5"/>
            <p:cNvSpPr/>
            <p:nvPr/>
          </p:nvSpPr>
          <p:spPr>
            <a:xfrm>
              <a:off x="5285520" y="5166000"/>
              <a:ext cx="13129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Broadway Lafayet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6"/>
            <p:cNvSpPr/>
            <p:nvPr/>
          </p:nvSpPr>
          <p:spPr>
            <a:xfrm>
              <a:off x="5005800" y="4610160"/>
              <a:ext cx="98856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14th Union S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7"/>
            <p:cNvSpPr/>
            <p:nvPr/>
          </p:nvSpPr>
          <p:spPr>
            <a:xfrm>
              <a:off x="4192560" y="4054320"/>
              <a:ext cx="10234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34th Herald S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8"/>
            <p:cNvSpPr/>
            <p:nvPr/>
          </p:nvSpPr>
          <p:spPr>
            <a:xfrm>
              <a:off x="3205800" y="3306600"/>
              <a:ext cx="126720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42nd Times Squa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9"/>
            <p:cNvSpPr/>
            <p:nvPr/>
          </p:nvSpPr>
          <p:spPr>
            <a:xfrm>
              <a:off x="3953520" y="5058000"/>
              <a:ext cx="70200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West 4t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0"/>
            <p:cNvSpPr/>
            <p:nvPr/>
          </p:nvSpPr>
          <p:spPr>
            <a:xfrm>
              <a:off x="5498280" y="3306600"/>
              <a:ext cx="97632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Grand Cent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Curved Connector 15"/>
            <p:cNvCxnSpPr>
              <a:stCxn id="453" idx="0"/>
              <a:endCxn id="451" idx="2"/>
            </p:cNvCxnSpPr>
            <p:nvPr/>
          </p:nvCxnSpPr>
          <p:spPr>
            <a:xfrm flipH="1" flipV="1" rot="5400000">
              <a:off x="4105080" y="4506480"/>
              <a:ext cx="749880" cy="352800"/>
            </a:xfrm>
            <a:prstGeom prst="curvedConnector5">
              <a:avLst>
                <a:gd name="adj1" fmla="val 50000"/>
                <a:gd name="adj2" fmla="val 49948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6" name="Curved Connector 16"/>
            <p:cNvCxnSpPr>
              <a:stCxn id="453" idx="2"/>
              <a:endCxn id="448" idx="0"/>
            </p:cNvCxnSpPr>
            <p:nvPr/>
          </p:nvCxnSpPr>
          <p:spPr>
            <a:xfrm flipH="1" rot="16200000">
              <a:off x="4124160" y="5489280"/>
              <a:ext cx="942120" cy="583200"/>
            </a:xfrm>
            <a:prstGeom prst="curvedConnector5">
              <a:avLst>
                <a:gd name="adj1" fmla="val 50000"/>
                <a:gd name="adj2" fmla="val 49969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7" name="Curved Connector 13"/>
            <p:cNvCxnSpPr>
              <a:stCxn id="451" idx="0"/>
              <a:endCxn id="452" idx="3"/>
            </p:cNvCxnSpPr>
            <p:nvPr/>
          </p:nvCxnSpPr>
          <p:spPr>
            <a:xfrm flipV="1" rot="16200000">
              <a:off x="4277880" y="3675960"/>
              <a:ext cx="529200" cy="22752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8" name="Curved Connector 18"/>
            <p:cNvCxnSpPr>
              <a:stCxn id="452" idx="0"/>
              <a:endCxn id="446" idx="2"/>
            </p:cNvCxnSpPr>
            <p:nvPr/>
          </p:nvCxnSpPr>
          <p:spPr>
            <a:xfrm flipV="1" rot="16200000">
              <a:off x="3428280" y="2896200"/>
              <a:ext cx="540360" cy="280080"/>
            </a:xfrm>
            <a:prstGeom prst="curvedConnector5">
              <a:avLst>
                <a:gd name="adj1" fmla="val 50000"/>
                <a:gd name="adj2" fmla="val 49935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59" name="Curved Connector 19"/>
            <p:cNvCxnSpPr>
              <a:stCxn id="452" idx="3"/>
              <a:endCxn id="454" idx="1"/>
            </p:cNvCxnSpPr>
            <p:nvPr/>
          </p:nvCxnSpPr>
          <p:spPr>
            <a:xfrm>
              <a:off x="4429080" y="3525840"/>
              <a:ext cx="1103400" cy="11520"/>
            </a:xfrm>
            <a:prstGeom prst="curvedConnector5">
              <a:avLst>
                <a:gd name="adj1" fmla="val 50000"/>
                <a:gd name="adj2" fmla="val 4838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0" name="Curved Connector 20"/>
            <p:cNvCxnSpPr>
              <a:stCxn id="454" idx="2"/>
              <a:endCxn id="450" idx="0"/>
            </p:cNvCxnSpPr>
            <p:nvPr/>
          </p:nvCxnSpPr>
          <p:spPr>
            <a:xfrm rot="5400000">
              <a:off x="5218200" y="3842280"/>
              <a:ext cx="1050120" cy="486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1" name="Curved Connector 17"/>
            <p:cNvCxnSpPr>
              <a:stCxn id="451" idx="2"/>
              <a:endCxn id="450" idx="1"/>
            </p:cNvCxnSpPr>
            <p:nvPr/>
          </p:nvCxnSpPr>
          <p:spPr>
            <a:xfrm flipH="1" rot="16200000">
              <a:off x="4633200" y="4330440"/>
              <a:ext cx="429120" cy="38484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2" name="Curved Connector 18"/>
            <p:cNvCxnSpPr>
              <a:stCxn id="451" idx="2"/>
              <a:endCxn id="447" idx="1"/>
            </p:cNvCxnSpPr>
            <p:nvPr/>
          </p:nvCxnSpPr>
          <p:spPr>
            <a:xfrm flipH="1" rot="16200000">
              <a:off x="4279680" y="4684320"/>
              <a:ext cx="1577160" cy="82440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3" name="Curved Connector 23"/>
            <p:cNvCxnSpPr>
              <a:stCxn id="453" idx="3"/>
              <a:endCxn id="449" idx="1"/>
            </p:cNvCxnSpPr>
            <p:nvPr/>
          </p:nvCxnSpPr>
          <p:spPr>
            <a:xfrm>
              <a:off x="4630680" y="5183280"/>
              <a:ext cx="700200" cy="110160"/>
            </a:xfrm>
            <a:prstGeom prst="curvedConnector5">
              <a:avLst>
                <a:gd name="adj1" fmla="val 50000"/>
                <a:gd name="adj2" fmla="val 49836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4" name="Curved Connector 24"/>
            <p:cNvCxnSpPr>
              <a:stCxn id="450" idx="2"/>
              <a:endCxn id="449" idx="0"/>
            </p:cNvCxnSpPr>
            <p:nvPr/>
          </p:nvCxnSpPr>
          <p:spPr>
            <a:xfrm flipH="1" rot="16200000">
              <a:off x="5569560" y="4794120"/>
              <a:ext cx="302040" cy="4417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5" name="Curved Connector 21"/>
            <p:cNvCxnSpPr>
              <a:stCxn id="448" idx="3"/>
              <a:endCxn id="447" idx="2"/>
            </p:cNvCxnSpPr>
            <p:nvPr/>
          </p:nvCxnSpPr>
          <p:spPr>
            <a:xfrm flipV="1">
              <a:off x="5206680" y="6011640"/>
              <a:ext cx="680040" cy="36576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6" name="Curved Connector 26"/>
            <p:cNvCxnSpPr>
              <a:stCxn id="447" idx="0"/>
              <a:endCxn id="449" idx="2"/>
            </p:cNvCxnSpPr>
            <p:nvPr/>
          </p:nvCxnSpPr>
          <p:spPr>
            <a:xfrm flipH="1" flipV="1" rot="5400000">
              <a:off x="5744160" y="5561280"/>
              <a:ext cx="340200" cy="56160"/>
            </a:xfrm>
            <a:prstGeom prst="curvedConnector5">
              <a:avLst>
                <a:gd name="adj1" fmla="val 50000"/>
                <a:gd name="adj2" fmla="val 4967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67" name="Curved Connector 23"/>
            <p:cNvCxnSpPr>
              <a:stCxn id="446" idx="3"/>
              <a:endCxn id="451" idx="0"/>
            </p:cNvCxnSpPr>
            <p:nvPr/>
          </p:nvCxnSpPr>
          <p:spPr>
            <a:xfrm>
              <a:off x="4068360" y="2640960"/>
              <a:ext cx="587880" cy="141372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  <p:sp>
          <p:nvSpPr>
            <p:cNvPr id="468" name="TextBox 24"/>
            <p:cNvSpPr/>
            <p:nvPr/>
          </p:nvSpPr>
          <p:spPr>
            <a:xfrm>
              <a:off x="5493600" y="2523960"/>
              <a:ext cx="8236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59th Stre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Curved Connector 29"/>
            <p:cNvCxnSpPr>
              <a:stCxn id="468" idx="2"/>
              <a:endCxn id="454" idx="0"/>
            </p:cNvCxnSpPr>
            <p:nvPr/>
          </p:nvCxnSpPr>
          <p:spPr>
            <a:xfrm flipH="1" rot="16200000">
              <a:off x="5680440" y="3000600"/>
              <a:ext cx="531000" cy="81360"/>
            </a:xfrm>
            <a:prstGeom prst="curvedConnector5">
              <a:avLst>
                <a:gd name="adj1" fmla="val 50000"/>
                <a:gd name="adj2" fmla="val 49777"/>
                <a:gd name="adj3" fmla="val 50000"/>
              </a:avLst>
            </a:prstGeom>
            <a:ln w="9360">
              <a:solidFill>
                <a:srgbClr val="3891a7"/>
              </a:solidFill>
              <a:miter/>
            </a:ln>
          </p:spPr>
        </p:cxnSp>
        <p:cxnSp>
          <p:nvCxnSpPr>
            <p:cNvPr id="470" name="Curved Connector 26"/>
            <p:cNvCxnSpPr>
              <a:stCxn id="468" idx="1"/>
              <a:endCxn id="451" idx="0"/>
            </p:cNvCxnSpPr>
            <p:nvPr/>
          </p:nvCxnSpPr>
          <p:spPr>
            <a:xfrm flipV="1" rot="10800000">
              <a:off x="4655520" y="2647800"/>
              <a:ext cx="867240" cy="1405440"/>
            </a:xfrm>
            <a:prstGeom prst="curvedConnector2">
              <a:avLst/>
            </a:prstGeom>
            <a:ln w="9360">
              <a:solidFill>
                <a:srgbClr val="3891a7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7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Route Time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 txBox="1"/>
          <p:nvPr/>
        </p:nvSpPr>
        <p:spPr>
          <a:xfrm>
            <a:off x="1434960" y="1523880"/>
            <a:ext cx="7499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TA data for average time of each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Table 3" descr=""/>
          <p:cNvPicPr/>
          <p:nvPr/>
        </p:nvPicPr>
        <p:blipFill>
          <a:blip r:embed="rId3"/>
          <a:stretch/>
        </p:blipFill>
        <p:spPr>
          <a:xfrm>
            <a:off x="2365200" y="2036880"/>
            <a:ext cx="502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7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Wait Time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1447560" y="1523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TA data of average wait times by h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6276960" cy="3676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8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raffic Patter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 txBox="1"/>
          <p:nvPr/>
        </p:nvSpPr>
        <p:spPr>
          <a:xfrm>
            <a:off x="14475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ffic varies over the course of a day for the average New Yor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3"/>
          <a:srcRect l="0" t="0" r="8174" b="0"/>
          <a:stretch/>
        </p:blipFill>
        <p:spPr>
          <a:xfrm>
            <a:off x="1295280" y="2514600"/>
            <a:ext cx="7620120" cy="3886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87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Tourist Patter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 txBox="1"/>
          <p:nvPr/>
        </p:nvSpPr>
        <p:spPr>
          <a:xfrm>
            <a:off x="1828440" y="1676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or tourist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7696080" cy="4038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Title 1"/>
          <p:cNvGrpSpPr/>
          <p:nvPr/>
        </p:nvGrpSpPr>
        <p:grpSpPr>
          <a:xfrm>
            <a:off x="1427040" y="262080"/>
            <a:ext cx="7521840" cy="1170000"/>
            <a:chOff x="1427040" y="262080"/>
            <a:chExt cx="7521840" cy="1170000"/>
          </a:xfrm>
        </p:grpSpPr>
        <p:pic>
          <p:nvPicPr>
            <p:cNvPr id="492" name="Title 1" descr=""/>
            <p:cNvPicPr/>
            <p:nvPr/>
          </p:nvPicPr>
          <p:blipFill>
            <a:blip r:embed="rId2"/>
            <a:stretch/>
          </p:blipFill>
          <p:spPr>
            <a:xfrm>
              <a:off x="1427040" y="262080"/>
              <a:ext cx="7521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3ea1b8"/>
                  </a:solidFill>
                  <a:latin typeface="Calibri"/>
                </a:rPr>
                <a:t>MTA Station Traffic Data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1371240" y="1447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 average hourly ridership per route to calculate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3"/>
          <a:stretch/>
        </p:blipFill>
        <p:spPr>
          <a:xfrm>
            <a:off x="1752480" y="2438280"/>
            <a:ext cx="697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09:45Z</dcterms:created>
  <dc:creator>Jonathan Olsen</dc:creator>
  <dc:description/>
  <dc:language>en-US</dc:language>
  <cp:lastModifiedBy>User</cp:lastModifiedBy>
  <dcterms:modified xsi:type="dcterms:W3CDTF">2010-12-05T22:33:40Z</dcterms:modified>
  <cp:revision>175</cp:revision>
  <dc:subject/>
  <dc:title>Subway Performer Millionaire</dc:title>
</cp:coreProperties>
</file>